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34AAD-7CA3-4F24-B2BF-342AC356E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3400-F59C-4D84-AF2C-10A8A556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60C17-512C-4DC0-80E1-53330EBA7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3BFA6-EC5F-4761-9A1E-11A82A1E7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5F4019-5B21-4005-8E9D-06D3AA198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7F1861-050F-40A0-8A77-2FB62ABEA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744C1A-3E5C-49EC-9759-B03B3CDBA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7AFCB1-321B-4314-97B8-5206AC159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0E1BA0-5097-4DC4-A1F3-6D19AE9BF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ABC6A5-2EB2-4A52-9F85-C2EFE9D99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4CBEF3-E7A0-4AE1-BCFC-F4341DB08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20E2-0EFD-4654-9D17-4710DF1A2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E5A4CF-65D4-41C1-94AC-7BA61911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483E46-6A74-46CE-8355-EA90E2758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F6BBCE-E12E-4B6D-B487-6B89C6C3A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AC52EA9-48AA-4E63-B20F-AD8E92C98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54F570-0428-471D-BED2-3D00E688C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F5F8-FFA9-42DD-98E5-EEFA08E7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B59D-BF3D-4674-AB57-CB037BFC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CA6D5-F08A-427F-9718-79298900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E094-95D2-4317-BF46-DAF82E6C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DC65-7320-4052-8FEC-FCFDC9ED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A742-4279-4201-AF5F-553E273D1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A078-FDDF-432C-8796-0404D20B3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317B-CA57-481E-BB53-05F747486846}"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B9F1-CEEB-445C-9073-2A089B3B9986}"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3720"/>
            <a:ext cx="777240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3e3ff"/>
                </a:solidFill>
                <a:latin typeface="Arial"/>
              </a:rPr>
              <a:t>EXERCIŢII DE RECEPTARE</a:t>
            </a:r>
            <a:endParaRPr b="0" lang="en-US" sz="1800" spc="-1" strike="noStrike">
              <a:solidFill>
                <a:srgbClr val="e3e3ff"/>
              </a:solidFill>
              <a:latin typeface="Arial"/>
            </a:endParaRPr>
          </a:p>
        </p:txBody>
      </p:sp>
      <p:sp>
        <p:nvSpPr>
          <p:cNvPr id="122" name="PlaceHolder 2"/>
          <p:cNvSpPr>
            <a:spLocks noGrp="1"/>
          </p:cNvSpPr>
          <p:nvPr>
            <p:ph type="subTitle"/>
          </p:nvPr>
        </p:nvSpPr>
        <p:spPr>
          <a:xfrm>
            <a:off x="457200" y="3870360"/>
            <a:ext cx="8153280" cy="6062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şi Literatura Română, clasa a X</a:t>
            </a:r>
            <a:r>
              <a:rPr b="0" i="1" lang="en-US" sz="1000" spc="-1" strike="noStrike">
                <a:solidFill>
                  <a:srgbClr val="ffffff"/>
                </a:solidFill>
                <a:latin typeface="Arial"/>
              </a:rPr>
              <a:t>-a</a:t>
            </a:r>
            <a:r>
              <a:rPr b="0" lang="en-US" sz="1000" spc="-1" strike="noStrike">
                <a:solidFill>
                  <a:srgbClr val="ffffff"/>
                </a:solidFill>
                <a:latin typeface="Arial"/>
              </a:rPr>
              <a:t>, Doina Ru</a:t>
            </a:r>
            <a:r>
              <a:rPr b="0" lang="ro-RO" sz="1000" spc="-1" strike="noStrike">
                <a:solidFill>
                  <a:srgbClr val="ffffff"/>
                </a:solidFill>
                <a:latin typeface="Arial"/>
              </a:rPr>
              <a:t>ş</a:t>
            </a:r>
            <a:r>
              <a:rPr b="0" lang="en-US" sz="1000" spc="-1" strike="noStrike">
                <a:solidFill>
                  <a:srgbClr val="ffffff"/>
                </a:solidFill>
                <a:latin typeface="Arial"/>
              </a:rPr>
              <a:t>ti)</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12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r>
              <a:rPr b="0" lang="en-US" sz="1000" spc="-1" strike="noStrike">
                <a:solidFill>
                  <a:srgbClr val="ffffff"/>
                </a:solidFill>
                <a:latin typeface="Arial"/>
              </a:rPr>
              <a:t> </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iterate type="lt">
                                    <p:tmAbs val="0"/>
                                  </p:iterate>
                                  <p:childTnLst>
                                    <p:anim calcmode="lin" valueType="num" to="1.5">
                                      <p:cBhvr additive="repl">
                                        <p:cTn id="6" dur="2000" fill="hold"/>
                                        <p:tgtEl>
                                          <p:spTgt spid="12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5" presetSubtype="1">
                                  <p:stCondLst>
                                    <p:cond delay="0"/>
                                  </p:stCondLst>
                                  <p:iterate type="lt">
                                    <p:tmAbs val="0"/>
                                  </p:iterate>
                                  <p:childTnLst>
                                    <p:set>
                                      <p:cBhvr>
                                        <p:cTn id="10" dur="indefinite"/>
                                        <p:tgtEl>
                                          <p:spTgt spid="121"/>
                                        </p:tgtEl>
                                        <p:attrNameLst>
                                          <p:attrName>style.fontStyle</p:attrName>
                                        </p:attrNameLst>
                                      </p:cBhvr>
                                      <p:to>
                                        <p:strVal val="normal"/>
                                      </p:to>
                                    </p:set>
                                    <p:set>
                                      <p:cBhvr>
                                        <p:cTn id="11" dur="indefinite"/>
                                        <p:tgtEl>
                                          <p:spTgt spid="121"/>
                                        </p:tgtEl>
                                        <p:attrNameLst>
                                          <p:attrName>style.fontWeight</p:attrName>
                                        </p:attrNameLst>
                                      </p:cBhvr>
                                      <p:to>
                                        <p:strVal val="bold"/>
                                      </p:to>
                                    </p:set>
                                    <p:set>
                                      <p:cBhvr>
                                        <p:cTn id="12" dur="indefinite"/>
                                        <p:tgtEl>
                                          <p:spTgt spid="121"/>
                                        </p:tgtEl>
                                        <p:attrNameLst>
                                          <p:attrName>style.textDecorationUnderline</p:attrName>
                                        </p:attrNameLst>
                                      </p:cBhvr>
                                      <p:to>
                                        <p:strVal val="fals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4" presetSubtype="2">
                                  <p:stCondLst>
                                    <p:cond delay="0"/>
                                  </p:stCondLst>
                                  <p:iterate type="lt">
                                    <p:tmAbs val="0"/>
                                  </p:iterate>
                                  <p:childTnLst>
                                    <p:anim calcmode="lin" valueType="num" to="1.5">
                                      <p:cBhvr additive="repl">
                                        <p:cTn id="16" dur="2000" fill="hold"/>
                                        <p:tgtEl>
                                          <p:spTgt spid="121"/>
                                        </p:tgtEl>
                                        <p:attrNameLst>
                                          <p:attrName>style.fontSize</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anim calcmode="lin" valueType="num">
                                      <p:cBhvr additive="repl">
                                        <p:cTn id="22" dur="2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entru a clarifica această afirmaţie oferim trei tipuri de interpretare pornind de la unul dintre cele mai discutate romane: Doamna Bovary de G. Flaubert.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ffffff"/>
              </a:solidFill>
              <a:latin typeface="Arial"/>
            </a:endParaRPr>
          </a:p>
        </p:txBody>
      </p:sp>
      <p:pic>
        <p:nvPicPr>
          <p:cNvPr id="126" name="Picture 6" descr=""/>
          <p:cNvPicPr/>
          <p:nvPr/>
        </p:nvPicPr>
        <p:blipFill>
          <a:blip r:embed="rId1">
            <a:alphaModFix amt="49000"/>
          </a:blip>
          <a:stretch/>
        </p:blipFill>
        <p:spPr>
          <a:xfrm>
            <a:off x="5029200" y="1600200"/>
            <a:ext cx="1440000" cy="1440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st distractiv: Ai aptitudini de critic, de estetician ori de filozof?</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şti strigat pe stradă; vocea îţi este necunoscută, însă rosteşte numele tău întreg. Ca să vezi cine te strigă trebuie să te întorci. Ce fac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prefaci că nu auz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întorci şi încerci să descoperi persoana care te strigă;</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ergi foarte încet şi aştepţi să te ajungă din urmă.</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e face o chetă pentru un coleg care are nevoie de ajutor.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trebi pentru ce se strâng banii şi apoi contribu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tizezi fără să întreb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 participi.</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ebuie să aştepţi două ore într-un campus şcolar; ce variantă alegi dintre următoarele trei posibilităţ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eşti o carte;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uiţi la tv.;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tai de vorbă cu cineva.</a:t>
            </a:r>
            <a:r>
              <a:rPr b="0" lang="en-GB" sz="1200" spc="-1" strike="noStrike">
                <a:solidFill>
                  <a:srgbClr val="ffffff"/>
                </a:solidFill>
                <a:latin typeface="Arial"/>
              </a:rPr>
              <a:t>[…]</a:t>
            </a:r>
            <a:endParaRPr b="0" lang="en-US" sz="12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0-06-21T11:14:39Z</dcterms:modified>
  <cp:revision>2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